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2.xml" ContentType="application/vnd.openxmlformats-officedocument.presentationml.notesSlid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A1BE-14DA-4C85-BD6A-099C4CEB3A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A540-17AD-4E86-92B7-F295B8074AC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E023-C806-402D-B8D8-E9AAE2A7A3F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9536-DF4E-4555-93FF-BDF5D3AE7E0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A56F-27D7-4766-AB17-AFFB4272D05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BBFE-C750-46BC-8AAE-3E1B24D311D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C8F1-AC5D-4A69-AE19-009AFA018CC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9F01-3BA9-4E60-8AFA-2508589141B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4D7F-DC27-4E29-8997-56018EF9848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1538-67F2-49E4-BAB5-9F19078295E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7250-85D9-47E7-99A0-D1B74E8C7DE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1888-1F50-486B-A482-08CCC0D7067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00A24-2B1B-44B2-9860-55008DFC459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5433-631B-42F2-96CB-B99745240E9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7FD4-1BAC-4386-8C87-85E70DAAF39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A273-72F0-4427-B1D5-AE66B684247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68E2-1342-4D1F-80BF-9EBBE172680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8BAE-4B49-47D0-A004-0D4F945D05C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B8F3-4DF5-4C90-9C6C-1DDB47A4554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D036-12DF-432C-97DA-5BDA71D8602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6355-79A2-4A2F-87F0-D900B18F610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36B0-F968-41A7-8AF9-E9A74F56964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E92B-17B0-4B84-A72F-65C5689A04F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08E2-9795-47C1-9440-EC0D0782632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9DA7-D06A-4DA3-9B0B-89E21B45BBC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DB0F-2619-433E-AAD2-3B029ED80B1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6CB2-7175-4563-B3DD-67E3B9C7661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939B-FD54-4C2C-9691-1E5FCD1B0D4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F589-C574-4C1D-A24C-EAECDF24946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FA9B-E889-4AEC-B550-9CD479F9D76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B963-829E-47E1-B1D0-12F0C2B70EE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BD42-C229-401D-9A7D-C66B960B2BF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B123-68DD-4122-A84E-FA523912F8C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D401-AE4F-4EF2-8948-2D3B4A0F4C5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1FECB-4C8C-4E18-9EDE-FDEAEB2FE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F6B5E-46A0-4A38-9080-5132B86BC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A6875-9C3B-4CF5-96A8-D3CFDFC85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6B9EC-3779-4D28-A0BB-20CD1E1C8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B2098-0812-44CA-A65E-0D5D307E6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9C4B6-4F07-4DFB-AD7C-E6B256CF8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2E53C-E6A0-40F4-AF98-964DCB098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DC463-DA2B-4F70-839F-97A94E66E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97208-F1AE-4D20-819B-C629267E4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B5B1-BFFC-4C62-8485-D0632C31E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1C6E-56EB-4027-9B6B-0DAA409C3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C8B58-B8F2-44DF-9C08-577E042FB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06D6-DCD0-4801-A701-31A88273E2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Executiv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6.  HOLDING OTHER OFFICES; PRACTICE OF PROFESSION; OTHER SALARY, REWARD, OR COMPENS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members of the legislature, the governor can hold no other position – including private positions - apart from the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7.  COMMANDER-IN-CHIEF OF MILITARY FORCES; CALLING FORTH MILIT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ppoints the Adjutant General (as of 2/17/11 - John F. Nichols), which heads the Texas Military Forces.</a:t>
            </a:r>
            <a:br>
              <a:rPr sz="4400"/>
            </a:br>
            <a:br>
              <a:rPr sz="4400"/>
            </a:br>
            <a:r>
              <a:rPr b="0" lang="en-US" sz="4400" spc="-1" strike="noStrike">
                <a:solidFill>
                  <a:srgbClr val="000000"/>
                </a:solidFill>
                <a:latin typeface="Calibri"/>
              </a:rPr>
              <a:t>TSHA: Adjutant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has limited police powers (most of these are held by city and county governments). He can appoint members of the Public Safety Commission which has authority over the Department of Public Saf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lso has the power – seldom used – to command the Texas Ran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8.  CONVENING LEGISLATURE ON EXTRAORDINARY OCCA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exas happens to be under attack, he can convene the legislature in different places, he can also call special sessions to expedite the appointment of presidential ele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9.  GOVERNOR'S MESSAGE AND RECOMMENDATIONS; ACCOUNTING FOR PUBLIC MONEY; ESTIMATES OF MONEY REQUI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governor is mandated to give “state of the state” messages before each session of the legislature, and at the end of his term. </a:t>
            </a:r>
            <a:br>
              <a:rPr sz="3600"/>
            </a:br>
            <a:br>
              <a:rPr sz="3600"/>
            </a:br>
            <a:r>
              <a:rPr b="0" lang="en-US" sz="3600" spc="-1" strike="noStrike">
                <a:solidFill>
                  <a:srgbClr val="000000"/>
                </a:solidFill>
                <a:latin typeface="Calibri"/>
              </a:rPr>
              <a:t>An account of public moneys spent has to be provided to the legislature, and before each session begins, an estimate has to be provided of the amount of money needed to be raised in taxes in order to provide current servi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will walk through the Texas Constitution in order to get a general sense of the structure of the Texas executive branch, or at least what’s said about it in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unction is handled by the Texas Comptroller, who is mandated to present a revenue estimation prior to the beginning of each session of the Texas legislature. </a:t>
            </a:r>
            <a:br>
              <a:rPr sz="3600"/>
            </a:br>
            <a:br>
              <a:rPr sz="3600"/>
            </a:br>
            <a:r>
              <a:rPr b="0" lang="en-US" sz="3600" spc="-1" strike="noStrike">
                <a:solidFill>
                  <a:srgbClr val="000000"/>
                </a:solidFill>
                <a:latin typeface="Calibri"/>
              </a:rPr>
              <a:t>Click here for the process.</a:t>
            </a:r>
            <a:br>
              <a:rPr sz="3600"/>
            </a:br>
            <a:r>
              <a:rPr b="0" lang="en-US" sz="3600" spc="-1" strike="noStrike">
                <a:solidFill>
                  <a:srgbClr val="000000"/>
                </a:solidFill>
                <a:latin typeface="Calibri"/>
              </a:rPr>
              <a:t>Click here for the 2012-13 estim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10.  EXECUTION OF LAWS; CONDUCT OF BUSINESS WITH OTHER STATES AND UNITED STATES. He shall cause the laws to be faithfully executed and shall conduct, in person, or in such manner as shall be prescribed by law, all intercourse and business of the State with other States and with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  BOARD OF PARDONS AND PAROLES; PAROLE LAWS; REPRIEVES, COMMUTATIONS, AND PARDONS; REMISSION OF FINES AND FORFEI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President, the Governor has the ability to check judicial power by granting pardons and paroles. Since it is expected that a greater number of prisoners will be held in state facilities, an institution exists to process requests for paroles and clem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appoints people to the board subject to senate confirmation. Click here for a list of current board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Board of Pardons and Paroles’ website. For further information: </a:t>
            </a:r>
            <a:br>
              <a:rPr sz="4400"/>
            </a:br>
            <a:br>
              <a:rPr sz="4400"/>
            </a:br>
            <a:r>
              <a:rPr b="0" lang="en-US" sz="4400" spc="-1" strike="noStrike">
                <a:solidFill>
                  <a:srgbClr val="000000"/>
                </a:solidFill>
                <a:latin typeface="Calibri"/>
              </a:rPr>
              <a:t>TSHA.</a:t>
            </a:r>
            <a:br>
              <a:rPr sz="4400"/>
            </a:br>
            <a:r>
              <a:rPr b="0" lang="en-US" sz="4400" spc="-1" strike="noStrike">
                <a:solidFill>
                  <a:srgbClr val="000000"/>
                </a:solidFill>
                <a:latin typeface="Calibri"/>
              </a:rPr>
              <a:t>Topics: Texas Tribune.</a:t>
            </a:r>
            <a:br>
              <a:rPr sz="4400"/>
            </a:br>
            <a:r>
              <a:rPr b="0" lang="en-US" sz="4400" spc="-1" strike="noStrike">
                <a:solidFill>
                  <a:srgbClr val="000000"/>
                </a:solidFill>
                <a:latin typeface="Calibri"/>
              </a:rPr>
              <a:t>Self Evalu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B.  CRIMINAL JUSTICE AGENCIES. </a:t>
            </a:r>
            <a:br>
              <a:rPr sz="4400"/>
            </a:br>
            <a:br>
              <a:rPr sz="4400"/>
            </a:br>
            <a:r>
              <a:rPr b="0" lang="en-US" sz="4400" spc="-1" strike="noStrike">
                <a:solidFill>
                  <a:srgbClr val="000000"/>
                </a:solidFill>
                <a:latin typeface="Calibri"/>
              </a:rPr>
              <a:t>The legislature has the authority to organize and establish criminal justic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asks are handled by the Texas Department of Criminal Justice (Wikipedia).</a:t>
            </a:r>
            <a:br>
              <a:rPr sz="3200"/>
            </a:br>
            <a:br>
              <a:rPr sz="3200"/>
            </a:br>
            <a:r>
              <a:rPr b="0" lang="en-US" sz="3200" spc="-1" strike="noStrike">
                <a:solidFill>
                  <a:srgbClr val="000000"/>
                </a:solidFill>
                <a:latin typeface="Calibri"/>
              </a:rPr>
              <a:t>They run the pris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Criminal Justice Division of the Attorney General’s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  VACANCIES IN STATE OR DISTRIC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plural executive is argued to have been a response to the perceived abuses the state suffered under reconstruction as well as the alleged corruption of the administration of E.J. Dav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13.  RESIDENCE OF GOVERNOR. During the session of the Legislature the Governor shall reside where its sessions are held, and at all other times at the seat of Government, except when by act of the Legislature, he may be required or authorized to reside elsewhe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lly the governor lives in the Governor’s Mansion (which burned recently). So Governor Perry lives in rental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4.  APPROVAL OR DISAPPROVAL OF BILLS; RETURN AND RECONSIDERATION; FAILURE TO RETURN; DISAPPROVAL OF ITEMS OF APPROPR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role in the bill making process is similar to the President’s, with some significant differ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has line item veto authority which allow for him to strike items from appropriations bills. He does not have this power over other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has 20 calendar days after the end of the legislative session to veto bills. </a:t>
            </a:r>
            <a:br>
              <a:rPr sz="4400"/>
            </a:br>
            <a:br>
              <a:rPr sz="4400"/>
            </a:br>
            <a:r>
              <a:rPr b="0" lang="en-US" sz="4400" spc="-1" strike="noStrike">
                <a:solidFill>
                  <a:srgbClr val="000000"/>
                </a:solidFill>
                <a:latin typeface="Calibri"/>
              </a:rPr>
              <a:t>Since the Legislature would not be in session, they cannot override these veto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st of all vetoes by Texas governors.</a:t>
            </a:r>
            <a:br>
              <a:rPr sz="4400"/>
            </a:br>
            <a:br>
              <a:rPr sz="4400"/>
            </a:br>
            <a:r>
              <a:rPr b="0" lang="en-US" sz="4400" spc="-1" strike="noStrike">
                <a:solidFill>
                  <a:srgbClr val="000000"/>
                </a:solidFill>
                <a:latin typeface="Calibri"/>
              </a:rPr>
              <a:t>Governor Perry has been known to veto a large number of bills, including a record 83 in 200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5.  APPROVAL OR DISAPPROVAL OF ORDERS, RESOLUTIONS, OR VOTES.</a:t>
            </a:r>
            <a:br>
              <a:rPr sz="4400"/>
            </a:br>
            <a:br>
              <a:rPr sz="4400"/>
            </a:br>
            <a:r>
              <a:rPr b="0" lang="en-US" sz="4400" spc="-1" strike="noStrike">
                <a:solidFill>
                  <a:srgbClr val="000000"/>
                </a:solidFill>
                <a:latin typeface="Calibri"/>
              </a:rPr>
              <a:t>The veto power described in the previous section applies to resolut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ection details the powers of the Lieutenant Governor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6.  LIEUTENANT GOVERNOR. (a) There shall also be a Lieutenant Governor, who shall be chosen at every election for Governor by the same voters, in the same manner, continue in office for the same time, and possess the same qualifications. The voters shall distinguish for whom they vote as Governor and for whom as Lieutenant Governor.</a:t>
            </a:r>
            <a:br>
              <a:rPr sz="2800"/>
            </a:br>
            <a:br>
              <a:rPr sz="2800"/>
            </a:br>
            <a:r>
              <a:rPr b="0" lang="en-US" sz="2800" spc="-1" strike="noStrike">
                <a:solidFill>
                  <a:srgbClr val="000000"/>
                </a:solidFill>
                <a:latin typeface="Calibri"/>
              </a:rPr>
              <a:t>(b)  The Lieutenant Governor shall by virtue of his office be President of the Senate, and shall have, when in Committee of the Whole, a right to debate and vote on all questions; and when the Senate is equally divided to give the casting vo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governor’s office is generally considered to be one of the weaker ones in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  DEATH, RESIGNATION, REFUSAL TO SERVE, REMOVAL, INABILITY TO SERVE, IMPEACHMENT, OR ABSENCE; COMPENSATION.</a:t>
            </a:r>
            <a:br>
              <a:rPr sz="4400"/>
            </a:br>
            <a:br>
              <a:rPr sz="4400"/>
            </a:br>
            <a:r>
              <a:rPr b="0" lang="en-US" sz="4400" spc="-1" strike="noStrike">
                <a:solidFill>
                  <a:srgbClr val="000000"/>
                </a:solidFill>
                <a:latin typeface="Calibri"/>
              </a:rPr>
              <a:t>The President Pro-Tempore of the Senate replaces the Lieutenant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  RESTRICTIONS AND INHIBITIONS.</a:t>
            </a:r>
            <a:br>
              <a:rPr sz="4400"/>
            </a:br>
            <a:br>
              <a:rPr sz="4400"/>
            </a:br>
            <a:r>
              <a:rPr b="0" lang="en-US" sz="4400" spc="-1" strike="noStrike">
                <a:solidFill>
                  <a:srgbClr val="000000"/>
                </a:solidFill>
                <a:latin typeface="Calibri"/>
              </a:rPr>
              <a:t>Restrictions on the power of the governor apply to other offices that may replace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19.  SEAL OF STATE. There shall be a Seal of the State which shall be kept by the Secretary of State, and used by him officially under the direction of the Governor. The Seal of the State shall be a star of five points encircled by olive and live oak branches, and the words "The State of Texa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ecretary of State’s office: “The state seal is required by law to be affixed to numerous documents, such as commissions for elected and appointed state and local officials, etc . . . </a:t>
            </a:r>
            <a:br>
              <a:rPr sz="4400"/>
            </a:br>
            <a:br>
              <a:rPr sz="4400"/>
            </a:br>
            <a:r>
              <a:rPr b="0" lang="en-US" sz="4400" spc="-1" strike="noStrike">
                <a:solidFill>
                  <a:srgbClr val="000000"/>
                </a:solidFill>
                <a:latin typeface="Calibri"/>
              </a:rPr>
              <a:t>Here is the state se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File:Seal of Texas.svg"/>
          <p:cNvPicPr/>
          <p:nvPr/>
        </p:nvPicPr>
        <p:blipFill>
          <a:blip r:embed="rId1"/>
          <a:stretch/>
        </p:blipFill>
        <p:spPr>
          <a:xfrm>
            <a:off x="2019240" y="914400"/>
            <a:ext cx="4991040" cy="4991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1.  SECRETARY OF STATE. There shall be a Secretary of State, who shall be appointed by the Governor, by and with the advice and consent of the Senate, and who shall continue in office during the term of service of the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shall authenticate the publication of the laws, and keep a fair register of all official acts and proceedings of the Governor, and shall, when required, lay the same and all papers, minutes and vouchers relative thereto, before the Legislature, or either House thereof, and shall perform such other duties as may be required of him by law. He shall receive for his services an annual salary in an amount to be fixed by the Legisla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official website, and here for the Wikipedia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22.  ATTORNEY GENERAL. The Attorney General shall represent the State in all suits and pleas in the Supreme Court of the State in which the State may be a party, and shall especially inquire into the charter rights of all private corporations, and from time to time, in the name of the State, take such action in the courts as may be proper and necessary to prevent any private corporation from exercising any power or demanding or collecting any species of taxes, tolls, freight or wharfage not authorized by la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shall, whenever sufficient cause exists, seek a judicial forfeiture of such charters, unless otherwise expressly directed by law, and give legal advice in writing to the Governor and other executive officers, when requested by them, and perform such other duties as may be required by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  RETURNS OF ELECTION; DECLARATION OF ELECTION; TIE VOTES; CONTESTS.</a:t>
            </a:r>
            <a:br>
              <a:rPr sz="4400"/>
            </a:br>
            <a:br>
              <a:rPr sz="4400"/>
            </a:br>
            <a:r>
              <a:rPr b="0" lang="en-US" sz="4400" spc="-1" strike="noStrike">
                <a:solidFill>
                  <a:srgbClr val="000000"/>
                </a:solidFill>
                <a:latin typeface="Calibri"/>
              </a:rPr>
              <a:t>Sec. 3a.  DEATH, DISABILITY, OR FAILURE TO QUALIFY OF PERSON RECEIVING HIGHEST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official website and here for the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3.  COMPTROLLER OF PUBLIC ACCOUNTS; COMMISSIONER OF GENERAL LAND OFFICE; ELECTED STATUTORY STATE OFFICERS; TERM; SALARY; FEES, COSTS AND PERQUISI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mptroller of Public Accounts, the Commissioner of the General Land Office, the Attorney General, and any statutory State officer who is elected by the electorate of Texas at large, unless a term of office is otherwise specifically provided in this Constitution, shall each hold office for the term of four years.  Each shall receive an annual salary in an amount to be fixed by the Legislature; reside at the Capital of the State during his continuance in office, and perform such duties as are or may be required by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nd the Secretary of State shall not receive to their own use any fees, costs or perquisites of office.  All fees that may be payable by law for any service performed by any officer specified in this section or in his office, shall be paid, when received, into the State Treas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official website and here for the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4.  ACCOUNTS AND REPORTS; INFORMATION TO, AND INSPECTION BY, GOVERNOR; PERJ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5.  CUSTODIANS OF PUBLIC FUNDS; BREACHES OF TRUST AND DU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26.  NOTARIES PUBLIC.  (a) The Secretary of State shall appoint a convenient number of Notaries Public for the state who shall perform such duties as now are or may be prescribed by law.  The qualifications of Notaries Public shall be prescribed by law. (b)  The terms of office of Notaries Public shall be not less than two years nor more than four years as provided by law.  </a:t>
            </a:r>
            <a:br>
              <a:rPr sz="3200"/>
            </a:br>
            <a:r>
              <a:rPr b="0" lang="en-US" sz="3200" spc="-1" strike="noStrike">
                <a:solidFill>
                  <a:srgbClr val="000000"/>
                </a:solidFill>
                <a:latin typeface="Calibri"/>
              </a:rPr>
              <a:t>(Amended Nov. 5, 1940; Subsec. (b) amended Nov. 6, 197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  INSTALLATION OF GOVERNOR; TERM; ELIG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originally had </a:t>
            </a:r>
            <a:br>
              <a:rPr sz="4400"/>
            </a:br>
            <a:r>
              <a:rPr b="0" lang="en-US" sz="4400" spc="-1" strike="noStrike">
                <a:solidFill>
                  <a:srgbClr val="000000"/>
                </a:solidFill>
                <a:latin typeface="Calibri"/>
              </a:rPr>
              <a:t>a two year term and rapid </a:t>
            </a:r>
            <a:br>
              <a:rPr sz="4400"/>
            </a:br>
            <a:r>
              <a:rPr b="0" lang="en-US" sz="4400" spc="-1" strike="noStrike">
                <a:solidFill>
                  <a:srgbClr val="000000"/>
                </a:solidFill>
                <a:latin typeface="Calibri"/>
              </a:rPr>
              <a:t>turnover was common. This established the four year term. This has led to an increase in the governor’s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5.  COMPENSATION OF GOVERNOR. The Governor shall, at stated times, receive as compensation for his services an annual salary in an amount to be fixed by the Legislature, and shall have the use and occupation of the Governor's Mansion, fixtures and furni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salaries of top executive officials in the state. </a:t>
            </a:r>
            <a:br>
              <a:rPr sz="4400"/>
            </a:br>
            <a:br>
              <a:rPr sz="4400"/>
            </a:br>
            <a:r>
              <a:rPr b="0" lang="en-US" sz="4400" spc="-1" strike="noStrike">
                <a:solidFill>
                  <a:srgbClr val="000000"/>
                </a:solidFill>
                <a:latin typeface="Calibri"/>
              </a:rPr>
              <a:t>Governor’s pay tend to vary widely across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15:52:33Z</dcterms:created>
  <dc:creator>Kevin Jefferies</dc:creator>
  <dc:description/>
  <dc:language>en-US</dc:language>
  <cp:lastModifiedBy>Kevin Jefferies</cp:lastModifiedBy>
  <dcterms:modified xsi:type="dcterms:W3CDTF">2012-02-26T22:28:39Z</dcterms:modified>
  <cp:revision>44</cp:revision>
  <dc:subject/>
  <dc:title>PowerPoint Presentation</dc:title>
</cp:coreProperties>
</file>